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ash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ARNEIRO, T. G. S. ; ANDRADE, P. R. ; Câmara, G. ; Monteiro, A. M. V.; PEREIRA, R. R. . TerraME: an extensible toolbox for modeling nature-society interactions. Environmental Modelling &amp; Software,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Ierusalimschy, R., L. H. Figueiredo, et al. (1996). "Lua-an extensible extension language." </a:t>
            </a:r>
            <a:r>
              <a:rPr b="0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Software: Practice &amp; Experience </a:t>
            </a: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26(6): 635-6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2958-989B-4DA9-BF32-AF783DFE3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169C-D969-47B3-A96E-9F4BD146A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C865-AC65-4870-8E6E-4DEA99CF3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CE97-E3CE-4998-B65B-7BDEED7D2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DA61-69A9-4617-B01D-0701B673A5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0D8D-8442-4A6C-A31F-D40E269653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8A95-D092-4B35-9831-C4920F3CFD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FD38-B603-4000-AE7E-EED538655E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DB6D-1425-452C-9BE4-9DC0079C0E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7F5E9-DB54-41F3-99C9-49D74EFBA3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2C1C9-5BEB-4185-AA97-C1F0C04059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87C9-5544-43AD-937F-55EA5C7F8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11C5-FF61-456F-B557-CB2F19A841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6C8F-DE09-4A94-98EE-EB8614F24F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C082-EFAC-43D5-BED9-4CCC3E0A5E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690A-80FB-4063-85DF-5E8F5B083A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2F35D-1F71-4341-AE01-9CBD382305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7F9C-4EB0-45C2-9D29-624F6F30F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1D84-7D5F-4462-9C28-384F17F67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DE1F-4234-4AAA-8248-BF639B728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734A-637C-4D04-8B16-8D43DFA56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21B5-5D71-4678-91FD-D35273B20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B62C-315B-4B6C-944F-4F729EAA9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B89F-83EC-4874-BDFB-3F651265D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7F48-0038-4FF5-BBB4-C533B8A8502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8" name="Rectangle 7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17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4DE9-8312-4EEE-927C-DD6BDF2CFD10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Lua for TerraME: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A Short Introduction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ão José dos Campos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image.png"/>
          <p:cNvPicPr/>
          <p:nvPr/>
        </p:nvPicPr>
        <p:blipFill>
          <a:blip r:embed="rId1"/>
          <a:stretch/>
        </p:blipFill>
        <p:spPr>
          <a:xfrm>
            <a:off x="7216920" y="4508640"/>
            <a:ext cx="16016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mm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1557000"/>
            <a:ext cx="8534520" cy="40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uble hyphen (--) until the end of the l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lock comments start with --[[ and run until ]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"hello") -- my com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- print("hello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--[[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rint(10) -- no action (com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--]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412640"/>
            <a:ext cx="853452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ni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verything that does not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 =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c)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 = 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c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"a string!!"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print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boolea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02" name="Picture 2" descr="Captura de Tela 2013-03-21 às 08.21.54.png"/>
          <p:cNvPicPr/>
          <p:nvPr/>
        </p:nvPicPr>
        <p:blipFill>
          <a:blip r:embed="rId1"/>
          <a:stretch/>
        </p:blipFill>
        <p:spPr>
          <a:xfrm>
            <a:off x="1332000" y="3112920"/>
            <a:ext cx="3263760" cy="2044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Captura de Tela 2013-03-21 às 08.23.47.png"/>
          <p:cNvPicPr/>
          <p:nvPr/>
        </p:nvPicPr>
        <p:blipFill>
          <a:blip r:embed="rId2"/>
          <a:stretch/>
        </p:blipFill>
        <p:spPr>
          <a:xfrm>
            <a:off x="4819680" y="3098880"/>
            <a:ext cx="3352680" cy="2120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4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false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nil and false are false, everything else is 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zero and the empty string are 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(and)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    (or)</a:t>
            </a: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true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true or false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true and (false or true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false or (true and false) or (true and true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numb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197000"/>
            <a:ext cx="853452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he only type for numeric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ouble-precision floating-point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rithmetic operators: +, –, *, 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xponent (^) and modulus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oolean  operators (&lt;, &gt;, &lt;=, &gt;=, ~=, and ==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6 + 2.2 * 4e+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A ^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 = A %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 &gt; 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 ~= 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arenthes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02800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 fontScale="74000"/>
          </a:bodyPr>
          <a:p>
            <a:pPr marL="138240" indent="0">
              <a:spcBef>
                <a:spcPts val="300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-138240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lways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optional (except in the case of function cal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-138240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When in doubt, use parenthe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+-i &lt; b/2+1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a+(-i)) &lt; ((b/2)+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5+x^2*8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5+((x^2)*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&lt; y and y &lt;= z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a &lt; y) and (y &lt;= z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x^y^z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(x^(y^z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str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916280"/>
            <a:ext cx="8534520" cy="34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ngle or double quo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perator  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"hello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'hello'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("x = "..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if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 state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n if statement tests condition and executes its then-part or its else-part (optional) according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= 6; b = 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0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a &lt; 0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b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print("a &lt; b")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print("a &gt;= b")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b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a &lt; b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lse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b + 5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b &lt;= a &lt; b+5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a &gt; b+5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for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 state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statement to repeat other statements, with the following syntax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var = exp1, exp2, exp3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That loop will execute something for each value of var from exp1 to exp2, using exp3 as the step to increment var. This third expression is optional (default is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i = 1, 10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i = 1, 10, 2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he only structured data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n implement arr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 = {7, 3, 2, 6, 4, 3, 9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x[1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[1] = x[2] + x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x[1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#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 = 1, #x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i.." "..x[i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1"/>
          <p:cNvSpPr/>
          <p:nvPr/>
        </p:nvSpPr>
        <p:spPr>
          <a:xfrm>
            <a:off x="6804000" y="4941720"/>
            <a:ext cx="1944720" cy="115128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2"/>
          <p:cNvSpPr/>
          <p:nvPr/>
        </p:nvSpPr>
        <p:spPr>
          <a:xfrm>
            <a:off x="5148360" y="1052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8153280" cy="76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003366"/>
                </a:solidFill>
                <a:latin typeface="Calibri"/>
              </a:rPr>
              <a:t>Dynamic Models</a:t>
            </a:r>
            <a:endParaRPr b="1" lang="en-US" sz="4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156360" y="6622920"/>
            <a:ext cx="2952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Helvetica Light"/>
              </a:rPr>
              <a:t>Source: Miller and Page 200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1187280" y="1628640"/>
            <a:ext cx="2737080" cy="165600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6300720" y="1628640"/>
            <a:ext cx="2735280" cy="165600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1619280" y="4869000"/>
            <a:ext cx="1944720" cy="115236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4657680" y="1411200"/>
            <a:ext cx="1008000" cy="1946520"/>
            <a:chOff x="4657680" y="1411200"/>
            <a:chExt cx="1008000" cy="1946520"/>
          </a:xfrm>
        </p:grpSpPr>
        <p:sp>
          <p:nvSpPr>
            <p:cNvPr id="110" name="Rectangle 9"/>
            <p:cNvSpPr/>
            <p:nvPr/>
          </p:nvSpPr>
          <p:spPr>
            <a:xfrm>
              <a:off x="4657680" y="1411200"/>
              <a:ext cx="1008000" cy="194652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4902840" y="141120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elvetica Light"/>
                </a:rPr>
                <a:t>F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1"/>
          <p:cNvGrpSpPr/>
          <p:nvPr/>
        </p:nvGrpSpPr>
        <p:grpSpPr>
          <a:xfrm>
            <a:off x="4788000" y="4842000"/>
            <a:ext cx="720720" cy="1222200"/>
            <a:chOff x="4788000" y="4842000"/>
            <a:chExt cx="720720" cy="1222200"/>
          </a:xfrm>
        </p:grpSpPr>
        <p:sp>
          <p:nvSpPr>
            <p:cNvPr id="113" name="Rectangle 12"/>
            <p:cNvSpPr/>
            <p:nvPr/>
          </p:nvSpPr>
          <p:spPr>
            <a:xfrm>
              <a:off x="4788000" y="4842000"/>
              <a:ext cx="720720" cy="122220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4921560" y="4842000"/>
              <a:ext cx="4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f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Rectangle 14"/>
          <p:cNvSpPr/>
          <p:nvPr/>
        </p:nvSpPr>
        <p:spPr>
          <a:xfrm>
            <a:off x="13320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Time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4134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Time t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-441360" y="22766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-396720" y="52610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8"/>
          <p:cNvSpPr/>
          <p:nvPr/>
        </p:nvSpPr>
        <p:spPr>
          <a:xfrm>
            <a:off x="2556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2340000" y="2492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320364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2771640" y="27795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1690560" y="2205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2671920" y="55879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212400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25"/>
          <p:cNvSpPr/>
          <p:nvPr/>
        </p:nvSpPr>
        <p:spPr>
          <a:xfrm>
            <a:off x="7451640" y="5661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26"/>
          <p:cNvSpPr/>
          <p:nvPr/>
        </p:nvSpPr>
        <p:spPr>
          <a:xfrm>
            <a:off x="7956720" y="5156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27"/>
          <p:cNvSpPr/>
          <p:nvPr/>
        </p:nvSpPr>
        <p:spPr>
          <a:xfrm>
            <a:off x="802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831528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29"/>
          <p:cNvSpPr/>
          <p:nvPr/>
        </p:nvSpPr>
        <p:spPr>
          <a:xfrm>
            <a:off x="7380360" y="3009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30"/>
          <p:cNvSpPr/>
          <p:nvPr/>
        </p:nvSpPr>
        <p:spPr>
          <a:xfrm>
            <a:off x="7523280" y="22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31"/>
          <p:cNvSpPr/>
          <p:nvPr/>
        </p:nvSpPr>
        <p:spPr>
          <a:xfrm>
            <a:off x="7091280" y="1844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32"/>
          <p:cNvGrpSpPr/>
          <p:nvPr/>
        </p:nvGrpSpPr>
        <p:grpSpPr>
          <a:xfrm>
            <a:off x="1979640" y="3859200"/>
            <a:ext cx="1152360" cy="433440"/>
            <a:chOff x="1979640" y="3859200"/>
            <a:chExt cx="1152360" cy="433440"/>
          </a:xfrm>
        </p:grpSpPr>
        <p:sp>
          <p:nvSpPr>
            <p:cNvPr id="134" name="Rectangle 33"/>
            <p:cNvSpPr/>
            <p:nvPr/>
          </p:nvSpPr>
          <p:spPr>
            <a:xfrm>
              <a:off x="1979640" y="3859200"/>
              <a:ext cx="1152360" cy="4334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2292120" y="385920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E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35"/>
          <p:cNvGrpSpPr/>
          <p:nvPr/>
        </p:nvGrpSpPr>
        <p:grpSpPr>
          <a:xfrm>
            <a:off x="7164360" y="3932280"/>
            <a:ext cx="1152720" cy="433440"/>
            <a:chOff x="7164360" y="3932280"/>
            <a:chExt cx="1152720" cy="433440"/>
          </a:xfrm>
        </p:grpSpPr>
        <p:sp>
          <p:nvSpPr>
            <p:cNvPr id="137" name="Rectangle 36"/>
            <p:cNvSpPr/>
            <p:nvPr/>
          </p:nvSpPr>
          <p:spPr>
            <a:xfrm>
              <a:off x="7164360" y="3932280"/>
              <a:ext cx="1152720" cy="4334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37"/>
            <p:cNvSpPr/>
            <p:nvPr/>
          </p:nvSpPr>
          <p:spPr>
            <a:xfrm>
              <a:off x="7477200" y="393228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E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Line 38"/>
          <p:cNvSpPr/>
          <p:nvPr/>
        </p:nvSpPr>
        <p:spPr>
          <a:xfrm>
            <a:off x="2197080" y="5291280"/>
            <a:ext cx="27352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39"/>
          <p:cNvSpPr/>
          <p:nvPr/>
        </p:nvSpPr>
        <p:spPr>
          <a:xfrm>
            <a:off x="2673360" y="5661000"/>
            <a:ext cx="225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40"/>
          <p:cNvSpPr/>
          <p:nvPr/>
        </p:nvSpPr>
        <p:spPr>
          <a:xfrm>
            <a:off x="5364000" y="5732640"/>
            <a:ext cx="20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41"/>
          <p:cNvSpPr/>
          <p:nvPr/>
        </p:nvSpPr>
        <p:spPr>
          <a:xfrm flipV="1">
            <a:off x="5364000" y="5226120"/>
            <a:ext cx="265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42"/>
          <p:cNvSpPr/>
          <p:nvPr/>
        </p:nvSpPr>
        <p:spPr>
          <a:xfrm flipV="1">
            <a:off x="4932360" y="5229000"/>
            <a:ext cx="4302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43"/>
          <p:cNvSpPr/>
          <p:nvPr/>
        </p:nvSpPr>
        <p:spPr>
          <a:xfrm flipH="1" flipV="1">
            <a:off x="4932000" y="5300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44"/>
          <p:cNvSpPr/>
          <p:nvPr/>
        </p:nvSpPr>
        <p:spPr>
          <a:xfrm>
            <a:off x="2843280" y="2852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45"/>
          <p:cNvSpPr/>
          <p:nvPr/>
        </p:nvSpPr>
        <p:spPr>
          <a:xfrm flipV="1">
            <a:off x="2409840" y="2565000"/>
            <a:ext cx="2522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46"/>
          <p:cNvSpPr/>
          <p:nvPr/>
        </p:nvSpPr>
        <p:spPr>
          <a:xfrm>
            <a:off x="2630520" y="1916280"/>
            <a:ext cx="446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47"/>
          <p:cNvSpPr/>
          <p:nvPr/>
        </p:nvSpPr>
        <p:spPr>
          <a:xfrm>
            <a:off x="3279600" y="2133720"/>
            <a:ext cx="503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48"/>
          <p:cNvSpPr/>
          <p:nvPr/>
        </p:nvSpPr>
        <p:spPr>
          <a:xfrm flipV="1">
            <a:off x="1776240" y="2276640"/>
            <a:ext cx="31546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49"/>
          <p:cNvSpPr/>
          <p:nvPr/>
        </p:nvSpPr>
        <p:spPr>
          <a:xfrm>
            <a:off x="5364000" y="3068640"/>
            <a:ext cx="2086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50"/>
          <p:cNvSpPr/>
          <p:nvPr/>
        </p:nvSpPr>
        <p:spPr>
          <a:xfrm flipV="1">
            <a:off x="5364000" y="2777760"/>
            <a:ext cx="279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51"/>
          <p:cNvSpPr/>
          <p:nvPr/>
        </p:nvSpPr>
        <p:spPr>
          <a:xfrm flipV="1">
            <a:off x="5364000" y="2346480"/>
            <a:ext cx="22273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52"/>
          <p:cNvSpPr/>
          <p:nvPr/>
        </p:nvSpPr>
        <p:spPr>
          <a:xfrm flipH="1" flipV="1">
            <a:off x="4932000" y="285264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53"/>
          <p:cNvSpPr/>
          <p:nvPr/>
        </p:nvSpPr>
        <p:spPr>
          <a:xfrm flipH="1">
            <a:off x="4932000" y="2349360"/>
            <a:ext cx="43164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54"/>
          <p:cNvSpPr/>
          <p:nvPr/>
        </p:nvSpPr>
        <p:spPr>
          <a:xfrm flipH="1" flipV="1">
            <a:off x="4932000" y="2274480"/>
            <a:ext cx="431640" cy="50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55"/>
          <p:cNvSpPr/>
          <p:nvPr/>
        </p:nvSpPr>
        <p:spPr>
          <a:xfrm>
            <a:off x="7269120" y="2610000"/>
            <a:ext cx="974880" cy="590400"/>
          </a:xfrm>
          <a:custGeom>
            <a:avLst/>
            <a:gdLst/>
            <a:ahLst/>
            <a:rect l="l" t="t" r="r" b="b"/>
            <a:pathLst>
              <a:path w="21484" h="21217">
                <a:moveTo>
                  <a:pt x="0" y="16225"/>
                </a:moveTo>
                <a:cubicBezTo>
                  <a:pt x="1364" y="9605"/>
                  <a:pt x="-101" y="14745"/>
                  <a:pt x="1372" y="12065"/>
                </a:cubicBezTo>
                <a:cubicBezTo>
                  <a:pt x="2560" y="9902"/>
                  <a:pt x="1155" y="11631"/>
                  <a:pt x="2286" y="9985"/>
                </a:cubicBezTo>
                <a:cubicBezTo>
                  <a:pt x="2500" y="9672"/>
                  <a:pt x="2713" y="9323"/>
                  <a:pt x="2972" y="9152"/>
                </a:cubicBezTo>
                <a:cubicBezTo>
                  <a:pt x="3562" y="8762"/>
                  <a:pt x="4800" y="8320"/>
                  <a:pt x="4800" y="8320"/>
                </a:cubicBezTo>
                <a:cubicBezTo>
                  <a:pt x="5029" y="8043"/>
                  <a:pt x="5235" y="7691"/>
                  <a:pt x="5486" y="7488"/>
                </a:cubicBezTo>
                <a:cubicBezTo>
                  <a:pt x="5486" y="7488"/>
                  <a:pt x="7200" y="6449"/>
                  <a:pt x="7543" y="6240"/>
                </a:cubicBezTo>
                <a:lnTo>
                  <a:pt x="8228" y="5824"/>
                </a:lnTo>
                <a:cubicBezTo>
                  <a:pt x="8457" y="5686"/>
                  <a:pt x="8714" y="5652"/>
                  <a:pt x="8914" y="5408"/>
                </a:cubicBezTo>
                <a:cubicBezTo>
                  <a:pt x="9143" y="5131"/>
                  <a:pt x="9347" y="4773"/>
                  <a:pt x="9600" y="4576"/>
                </a:cubicBezTo>
                <a:cubicBezTo>
                  <a:pt x="10494" y="3879"/>
                  <a:pt x="10963" y="4447"/>
                  <a:pt x="11885" y="3328"/>
                </a:cubicBezTo>
                <a:cubicBezTo>
                  <a:pt x="12114" y="3051"/>
                  <a:pt x="12325" y="2720"/>
                  <a:pt x="12571" y="2496"/>
                </a:cubicBezTo>
                <a:cubicBezTo>
                  <a:pt x="12936" y="2164"/>
                  <a:pt x="13829" y="1842"/>
                  <a:pt x="14171" y="1664"/>
                </a:cubicBezTo>
                <a:cubicBezTo>
                  <a:pt x="14402" y="1544"/>
                  <a:pt x="14625" y="1369"/>
                  <a:pt x="14856" y="1248"/>
                </a:cubicBezTo>
                <a:cubicBezTo>
                  <a:pt x="15159" y="1091"/>
                  <a:pt x="15469" y="989"/>
                  <a:pt x="15771" y="832"/>
                </a:cubicBezTo>
                <a:cubicBezTo>
                  <a:pt x="18066" y="-361"/>
                  <a:pt x="14513" y="1301"/>
                  <a:pt x="17371" y="0"/>
                </a:cubicBezTo>
                <a:cubicBezTo>
                  <a:pt x="19835" y="690"/>
                  <a:pt x="19900" y="-383"/>
                  <a:pt x="21027" y="2080"/>
                </a:cubicBezTo>
                <a:cubicBezTo>
                  <a:pt x="21203" y="2464"/>
                  <a:pt x="21332" y="2912"/>
                  <a:pt x="21485" y="3328"/>
                </a:cubicBezTo>
                <a:cubicBezTo>
                  <a:pt x="21332" y="5824"/>
                  <a:pt x="21499" y="8456"/>
                  <a:pt x="21027" y="10817"/>
                </a:cubicBezTo>
                <a:cubicBezTo>
                  <a:pt x="20840" y="11756"/>
                  <a:pt x="20177" y="12164"/>
                  <a:pt x="19656" y="12481"/>
                </a:cubicBezTo>
                <a:cubicBezTo>
                  <a:pt x="17933" y="13526"/>
                  <a:pt x="20057" y="12116"/>
                  <a:pt x="18285" y="13729"/>
                </a:cubicBezTo>
                <a:cubicBezTo>
                  <a:pt x="18069" y="13925"/>
                  <a:pt x="17815" y="13949"/>
                  <a:pt x="17599" y="14145"/>
                </a:cubicBezTo>
                <a:cubicBezTo>
                  <a:pt x="15827" y="15758"/>
                  <a:pt x="17951" y="14347"/>
                  <a:pt x="16228" y="15393"/>
                </a:cubicBezTo>
                <a:cubicBezTo>
                  <a:pt x="15999" y="15809"/>
                  <a:pt x="15836" y="16397"/>
                  <a:pt x="15542" y="16641"/>
                </a:cubicBezTo>
                <a:cubicBezTo>
                  <a:pt x="14970" y="17114"/>
                  <a:pt x="14310" y="17111"/>
                  <a:pt x="13714" y="17473"/>
                </a:cubicBezTo>
                <a:lnTo>
                  <a:pt x="13028" y="17889"/>
                </a:lnTo>
                <a:cubicBezTo>
                  <a:pt x="12876" y="18166"/>
                  <a:pt x="12769" y="18566"/>
                  <a:pt x="12571" y="18721"/>
                </a:cubicBezTo>
                <a:cubicBezTo>
                  <a:pt x="12347" y="18896"/>
                  <a:pt x="10173" y="19506"/>
                  <a:pt x="10057" y="19553"/>
                </a:cubicBezTo>
                <a:cubicBezTo>
                  <a:pt x="9822" y="19648"/>
                  <a:pt x="9607" y="19883"/>
                  <a:pt x="9371" y="19969"/>
                </a:cubicBezTo>
                <a:cubicBezTo>
                  <a:pt x="8843" y="20161"/>
                  <a:pt x="8301" y="20210"/>
                  <a:pt x="7771" y="20385"/>
                </a:cubicBezTo>
                <a:cubicBezTo>
                  <a:pt x="7140" y="20594"/>
                  <a:pt x="6759" y="20861"/>
                  <a:pt x="6171" y="21217"/>
                </a:cubicBezTo>
                <a:cubicBezTo>
                  <a:pt x="4495" y="21078"/>
                  <a:pt x="2816" y="21045"/>
                  <a:pt x="1143" y="20801"/>
                </a:cubicBezTo>
                <a:cubicBezTo>
                  <a:pt x="903" y="20766"/>
                  <a:pt x="598" y="20742"/>
                  <a:pt x="457" y="20385"/>
                </a:cubicBezTo>
                <a:cubicBezTo>
                  <a:pt x="-72" y="19036"/>
                  <a:pt x="77" y="16918"/>
                  <a:pt x="0" y="1622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56"/>
          <p:cNvSpPr/>
          <p:nvPr/>
        </p:nvSpPr>
        <p:spPr>
          <a:xfrm>
            <a:off x="6904080" y="1755720"/>
            <a:ext cx="1714320" cy="865080"/>
          </a:xfrm>
          <a:custGeom>
            <a:avLst/>
            <a:gdLst/>
            <a:ahLst/>
            <a:rect l="l" t="t" r="r" b="b"/>
            <a:pathLst>
              <a:path w="21364" h="21506">
                <a:moveTo>
                  <a:pt x="0" y="4033"/>
                </a:moveTo>
                <a:cubicBezTo>
                  <a:pt x="336" y="3249"/>
                  <a:pt x="644" y="2411"/>
                  <a:pt x="1009" y="1680"/>
                </a:cubicBezTo>
                <a:cubicBezTo>
                  <a:pt x="1152" y="1395"/>
                  <a:pt x="1359" y="1267"/>
                  <a:pt x="1514" y="1008"/>
                </a:cubicBezTo>
                <a:cubicBezTo>
                  <a:pt x="1697" y="704"/>
                  <a:pt x="1850" y="336"/>
                  <a:pt x="2019" y="0"/>
                </a:cubicBezTo>
                <a:cubicBezTo>
                  <a:pt x="3701" y="112"/>
                  <a:pt x="5396" y="-94"/>
                  <a:pt x="7065" y="336"/>
                </a:cubicBezTo>
                <a:cubicBezTo>
                  <a:pt x="7241" y="382"/>
                  <a:pt x="7154" y="1028"/>
                  <a:pt x="7233" y="1344"/>
                </a:cubicBezTo>
                <a:cubicBezTo>
                  <a:pt x="7538" y="2560"/>
                  <a:pt x="7492" y="2301"/>
                  <a:pt x="8074" y="2688"/>
                </a:cubicBezTo>
                <a:cubicBezTo>
                  <a:pt x="8355" y="3249"/>
                  <a:pt x="8696" y="3710"/>
                  <a:pt x="8916" y="4369"/>
                </a:cubicBezTo>
                <a:cubicBezTo>
                  <a:pt x="9028" y="4705"/>
                  <a:pt x="9081" y="5163"/>
                  <a:pt x="9252" y="5377"/>
                </a:cubicBezTo>
                <a:cubicBezTo>
                  <a:pt x="9553" y="5752"/>
                  <a:pt x="10261" y="6049"/>
                  <a:pt x="10261" y="6049"/>
                </a:cubicBezTo>
                <a:cubicBezTo>
                  <a:pt x="10878" y="5937"/>
                  <a:pt x="11502" y="5928"/>
                  <a:pt x="12112" y="5713"/>
                </a:cubicBezTo>
                <a:cubicBezTo>
                  <a:pt x="12461" y="5590"/>
                  <a:pt x="12768" y="5105"/>
                  <a:pt x="13121" y="5041"/>
                </a:cubicBezTo>
                <a:cubicBezTo>
                  <a:pt x="14168" y="4851"/>
                  <a:pt x="15126" y="4740"/>
                  <a:pt x="16149" y="4369"/>
                </a:cubicBezTo>
                <a:cubicBezTo>
                  <a:pt x="16376" y="4286"/>
                  <a:pt x="16598" y="4145"/>
                  <a:pt x="16822" y="4033"/>
                </a:cubicBezTo>
                <a:cubicBezTo>
                  <a:pt x="17551" y="4145"/>
                  <a:pt x="18283" y="4198"/>
                  <a:pt x="19009" y="4369"/>
                </a:cubicBezTo>
                <a:cubicBezTo>
                  <a:pt x="19238" y="4423"/>
                  <a:pt x="19475" y="4498"/>
                  <a:pt x="19682" y="4705"/>
                </a:cubicBezTo>
                <a:cubicBezTo>
                  <a:pt x="21529" y="6550"/>
                  <a:pt x="18319" y="4245"/>
                  <a:pt x="20523" y="5713"/>
                </a:cubicBezTo>
                <a:cubicBezTo>
                  <a:pt x="20836" y="6338"/>
                  <a:pt x="20983" y="6545"/>
                  <a:pt x="21196" y="7393"/>
                </a:cubicBezTo>
                <a:cubicBezTo>
                  <a:pt x="21275" y="7710"/>
                  <a:pt x="21308" y="8065"/>
                  <a:pt x="21364" y="8401"/>
                </a:cubicBezTo>
                <a:cubicBezTo>
                  <a:pt x="21308" y="9969"/>
                  <a:pt x="21288" y="11544"/>
                  <a:pt x="21196" y="13105"/>
                </a:cubicBezTo>
                <a:cubicBezTo>
                  <a:pt x="21175" y="13457"/>
                  <a:pt x="21130" y="13825"/>
                  <a:pt x="21027" y="14113"/>
                </a:cubicBezTo>
                <a:cubicBezTo>
                  <a:pt x="20450" y="15728"/>
                  <a:pt x="20268" y="15515"/>
                  <a:pt x="19345" y="16130"/>
                </a:cubicBezTo>
                <a:lnTo>
                  <a:pt x="18841" y="16466"/>
                </a:lnTo>
                <a:cubicBezTo>
                  <a:pt x="18448" y="16354"/>
                  <a:pt x="18043" y="16357"/>
                  <a:pt x="17663" y="16130"/>
                </a:cubicBezTo>
                <a:cubicBezTo>
                  <a:pt x="16666" y="15532"/>
                  <a:pt x="17584" y="15547"/>
                  <a:pt x="16822" y="14785"/>
                </a:cubicBezTo>
                <a:cubicBezTo>
                  <a:pt x="16505" y="14469"/>
                  <a:pt x="16149" y="14337"/>
                  <a:pt x="15813" y="14113"/>
                </a:cubicBezTo>
                <a:lnTo>
                  <a:pt x="14299" y="13105"/>
                </a:lnTo>
                <a:cubicBezTo>
                  <a:pt x="13622" y="13331"/>
                  <a:pt x="13258" y="13168"/>
                  <a:pt x="12785" y="14113"/>
                </a:cubicBezTo>
                <a:cubicBezTo>
                  <a:pt x="12642" y="14399"/>
                  <a:pt x="12600" y="14856"/>
                  <a:pt x="12448" y="15121"/>
                </a:cubicBezTo>
                <a:cubicBezTo>
                  <a:pt x="12144" y="15653"/>
                  <a:pt x="11439" y="16466"/>
                  <a:pt x="11439" y="16466"/>
                </a:cubicBezTo>
                <a:cubicBezTo>
                  <a:pt x="10934" y="17978"/>
                  <a:pt x="10962" y="18454"/>
                  <a:pt x="10261" y="19154"/>
                </a:cubicBezTo>
                <a:cubicBezTo>
                  <a:pt x="10103" y="19312"/>
                  <a:pt x="9925" y="19378"/>
                  <a:pt x="9757" y="19490"/>
                </a:cubicBezTo>
                <a:cubicBezTo>
                  <a:pt x="9444" y="20115"/>
                  <a:pt x="9340" y="20410"/>
                  <a:pt x="8916" y="20834"/>
                </a:cubicBezTo>
                <a:cubicBezTo>
                  <a:pt x="8674" y="21075"/>
                  <a:pt x="7954" y="21398"/>
                  <a:pt x="7738" y="21506"/>
                </a:cubicBezTo>
                <a:cubicBezTo>
                  <a:pt x="7289" y="21394"/>
                  <a:pt x="6817" y="21479"/>
                  <a:pt x="6392" y="21170"/>
                </a:cubicBezTo>
                <a:cubicBezTo>
                  <a:pt x="6169" y="21008"/>
                  <a:pt x="6070" y="20466"/>
                  <a:pt x="5888" y="20162"/>
                </a:cubicBezTo>
                <a:cubicBezTo>
                  <a:pt x="5732" y="19903"/>
                  <a:pt x="5551" y="19714"/>
                  <a:pt x="5383" y="19490"/>
                </a:cubicBezTo>
                <a:lnTo>
                  <a:pt x="4710" y="16802"/>
                </a:lnTo>
                <a:cubicBezTo>
                  <a:pt x="4598" y="16354"/>
                  <a:pt x="4453" y="15933"/>
                  <a:pt x="4374" y="15457"/>
                </a:cubicBezTo>
                <a:cubicBezTo>
                  <a:pt x="4318" y="15121"/>
                  <a:pt x="4297" y="14753"/>
                  <a:pt x="4205" y="14449"/>
                </a:cubicBezTo>
                <a:cubicBezTo>
                  <a:pt x="4124" y="14178"/>
                  <a:pt x="3964" y="14031"/>
                  <a:pt x="3869" y="13777"/>
                </a:cubicBezTo>
                <a:cubicBezTo>
                  <a:pt x="3626" y="13131"/>
                  <a:pt x="3533" y="12209"/>
                  <a:pt x="3196" y="11761"/>
                </a:cubicBezTo>
                <a:lnTo>
                  <a:pt x="1177" y="9073"/>
                </a:lnTo>
                <a:cubicBezTo>
                  <a:pt x="417" y="6793"/>
                  <a:pt x="791" y="7628"/>
                  <a:pt x="168" y="6385"/>
                </a:cubicBezTo>
                <a:cubicBezTo>
                  <a:pt x="-71" y="4952"/>
                  <a:pt x="28" y="4425"/>
                  <a:pt x="0" y="4033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57"/>
          <p:cNvSpPr/>
          <p:nvPr/>
        </p:nvSpPr>
        <p:spPr>
          <a:xfrm>
            <a:off x="2227320" y="1716120"/>
            <a:ext cx="1235160" cy="1025640"/>
          </a:xfrm>
          <a:custGeom>
            <a:avLst/>
            <a:gdLst/>
            <a:ahLst/>
            <a:rect l="l" t="t" r="r" b="b"/>
            <a:pathLst>
              <a:path w="21337" h="21600">
                <a:moveTo>
                  <a:pt x="20801" y="8526"/>
                </a:moveTo>
                <a:cubicBezTo>
                  <a:pt x="20723" y="9379"/>
                  <a:pt x="20809" y="10278"/>
                  <a:pt x="20568" y="11084"/>
                </a:cubicBezTo>
                <a:cubicBezTo>
                  <a:pt x="20472" y="11405"/>
                  <a:pt x="20066" y="11411"/>
                  <a:pt x="19867" y="11653"/>
                </a:cubicBezTo>
                <a:cubicBezTo>
                  <a:pt x="19669" y="11894"/>
                  <a:pt x="19526" y="12200"/>
                  <a:pt x="19400" y="12505"/>
                </a:cubicBezTo>
                <a:cubicBezTo>
                  <a:pt x="18813" y="13935"/>
                  <a:pt x="19705" y="13271"/>
                  <a:pt x="18233" y="15063"/>
                </a:cubicBezTo>
                <a:cubicBezTo>
                  <a:pt x="17680" y="15736"/>
                  <a:pt x="17157" y="16447"/>
                  <a:pt x="16365" y="16768"/>
                </a:cubicBezTo>
                <a:cubicBezTo>
                  <a:pt x="16131" y="16863"/>
                  <a:pt x="15884" y="16919"/>
                  <a:pt x="15664" y="17053"/>
                </a:cubicBezTo>
                <a:cubicBezTo>
                  <a:pt x="15413" y="17205"/>
                  <a:pt x="15220" y="17482"/>
                  <a:pt x="14964" y="17621"/>
                </a:cubicBezTo>
                <a:cubicBezTo>
                  <a:pt x="13676" y="18318"/>
                  <a:pt x="13651" y="18092"/>
                  <a:pt x="12395" y="18474"/>
                </a:cubicBezTo>
                <a:cubicBezTo>
                  <a:pt x="11021" y="18892"/>
                  <a:pt x="12103" y="18980"/>
                  <a:pt x="9827" y="19326"/>
                </a:cubicBezTo>
                <a:cubicBezTo>
                  <a:pt x="8882" y="19470"/>
                  <a:pt x="7291" y="19699"/>
                  <a:pt x="6324" y="19895"/>
                </a:cubicBezTo>
                <a:cubicBezTo>
                  <a:pt x="5933" y="19974"/>
                  <a:pt x="5540" y="20052"/>
                  <a:pt x="5157" y="20179"/>
                </a:cubicBezTo>
                <a:cubicBezTo>
                  <a:pt x="4682" y="20337"/>
                  <a:pt x="4165" y="20415"/>
                  <a:pt x="3756" y="20747"/>
                </a:cubicBezTo>
                <a:cubicBezTo>
                  <a:pt x="2851" y="21482"/>
                  <a:pt x="3322" y="21208"/>
                  <a:pt x="2355" y="21600"/>
                </a:cubicBezTo>
                <a:cubicBezTo>
                  <a:pt x="1732" y="21505"/>
                  <a:pt x="1069" y="21599"/>
                  <a:pt x="487" y="21316"/>
                </a:cubicBezTo>
                <a:cubicBezTo>
                  <a:pt x="226" y="21189"/>
                  <a:pt x="31" y="20805"/>
                  <a:pt x="20" y="20463"/>
                </a:cubicBezTo>
                <a:cubicBezTo>
                  <a:pt x="-49" y="18284"/>
                  <a:pt x="69" y="16096"/>
                  <a:pt x="253" y="13926"/>
                </a:cubicBezTo>
                <a:cubicBezTo>
                  <a:pt x="304" y="13330"/>
                  <a:pt x="565" y="12789"/>
                  <a:pt x="720" y="12221"/>
                </a:cubicBezTo>
                <a:lnTo>
                  <a:pt x="1187" y="10516"/>
                </a:lnTo>
                <a:cubicBezTo>
                  <a:pt x="1517" y="8507"/>
                  <a:pt x="1295" y="9553"/>
                  <a:pt x="1888" y="7389"/>
                </a:cubicBezTo>
                <a:lnTo>
                  <a:pt x="2121" y="6537"/>
                </a:lnTo>
                <a:cubicBezTo>
                  <a:pt x="2199" y="6253"/>
                  <a:pt x="2218" y="5933"/>
                  <a:pt x="2355" y="5684"/>
                </a:cubicBezTo>
                <a:lnTo>
                  <a:pt x="2822" y="4832"/>
                </a:lnTo>
                <a:cubicBezTo>
                  <a:pt x="4027" y="432"/>
                  <a:pt x="2646" y="4976"/>
                  <a:pt x="3756" y="2274"/>
                </a:cubicBezTo>
                <a:cubicBezTo>
                  <a:pt x="3989" y="1706"/>
                  <a:pt x="3954" y="976"/>
                  <a:pt x="4456" y="568"/>
                </a:cubicBezTo>
                <a:cubicBezTo>
                  <a:pt x="4689" y="380"/>
                  <a:pt x="6787" y="1"/>
                  <a:pt x="6791" y="0"/>
                </a:cubicBezTo>
                <a:cubicBezTo>
                  <a:pt x="7647" y="95"/>
                  <a:pt x="8513" y="102"/>
                  <a:pt x="9360" y="284"/>
                </a:cubicBezTo>
                <a:cubicBezTo>
                  <a:pt x="9360" y="284"/>
                  <a:pt x="11111" y="995"/>
                  <a:pt x="11461" y="1137"/>
                </a:cubicBezTo>
                <a:lnTo>
                  <a:pt x="16365" y="3126"/>
                </a:lnTo>
                <a:cubicBezTo>
                  <a:pt x="17105" y="3426"/>
                  <a:pt x="17119" y="3349"/>
                  <a:pt x="17766" y="3979"/>
                </a:cubicBezTo>
                <a:cubicBezTo>
                  <a:pt x="17938" y="4146"/>
                  <a:pt x="18036" y="4428"/>
                  <a:pt x="18233" y="4547"/>
                </a:cubicBezTo>
                <a:cubicBezTo>
                  <a:pt x="18520" y="4722"/>
                  <a:pt x="18859" y="4719"/>
                  <a:pt x="19167" y="4832"/>
                </a:cubicBezTo>
                <a:cubicBezTo>
                  <a:pt x="19638" y="5004"/>
                  <a:pt x="20568" y="5400"/>
                  <a:pt x="20568" y="5400"/>
                </a:cubicBezTo>
                <a:cubicBezTo>
                  <a:pt x="20646" y="5684"/>
                  <a:pt x="20691" y="5985"/>
                  <a:pt x="20801" y="6253"/>
                </a:cubicBezTo>
                <a:cubicBezTo>
                  <a:pt x="20927" y="6558"/>
                  <a:pt x="21143" y="6800"/>
                  <a:pt x="21268" y="7105"/>
                </a:cubicBezTo>
                <a:cubicBezTo>
                  <a:pt x="21551" y="7794"/>
                  <a:pt x="20879" y="8289"/>
                  <a:pt x="20801" y="8526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58"/>
          <p:cNvSpPr/>
          <p:nvPr/>
        </p:nvSpPr>
        <p:spPr>
          <a:xfrm>
            <a:off x="1552680" y="2054160"/>
            <a:ext cx="1514520" cy="1092240"/>
          </a:xfrm>
          <a:custGeom>
            <a:avLst/>
            <a:gdLst/>
            <a:ahLst/>
            <a:rect l="l" t="t" r="r" b="b"/>
            <a:pathLst>
              <a:path w="21249" h="21600">
                <a:moveTo>
                  <a:pt x="5312" y="4533"/>
                </a:moveTo>
                <a:cubicBezTo>
                  <a:pt x="5376" y="5422"/>
                  <a:pt x="5405" y="6317"/>
                  <a:pt x="5502" y="7200"/>
                </a:cubicBezTo>
                <a:cubicBezTo>
                  <a:pt x="5532" y="7478"/>
                  <a:pt x="5656" y="7723"/>
                  <a:pt x="5692" y="8000"/>
                </a:cubicBezTo>
                <a:cubicBezTo>
                  <a:pt x="5783" y="8705"/>
                  <a:pt x="5710" y="9458"/>
                  <a:pt x="5881" y="10133"/>
                </a:cubicBezTo>
                <a:cubicBezTo>
                  <a:pt x="6035" y="10737"/>
                  <a:pt x="6318" y="11280"/>
                  <a:pt x="6640" y="11733"/>
                </a:cubicBezTo>
                <a:cubicBezTo>
                  <a:pt x="6993" y="12229"/>
                  <a:pt x="7159" y="12394"/>
                  <a:pt x="7399" y="13067"/>
                </a:cubicBezTo>
                <a:cubicBezTo>
                  <a:pt x="7577" y="13569"/>
                  <a:pt x="7572" y="14319"/>
                  <a:pt x="7968" y="14667"/>
                </a:cubicBezTo>
                <a:cubicBezTo>
                  <a:pt x="8307" y="14965"/>
                  <a:pt x="8773" y="14888"/>
                  <a:pt x="9106" y="15200"/>
                </a:cubicBezTo>
                <a:cubicBezTo>
                  <a:pt x="9841" y="15889"/>
                  <a:pt x="9458" y="15632"/>
                  <a:pt x="10244" y="16000"/>
                </a:cubicBezTo>
                <a:cubicBezTo>
                  <a:pt x="11129" y="15911"/>
                  <a:pt x="12017" y="15879"/>
                  <a:pt x="12899" y="15733"/>
                </a:cubicBezTo>
                <a:cubicBezTo>
                  <a:pt x="13877" y="15572"/>
                  <a:pt x="13137" y="15465"/>
                  <a:pt x="13847" y="14667"/>
                </a:cubicBezTo>
                <a:cubicBezTo>
                  <a:pt x="14093" y="14390"/>
                  <a:pt x="15542" y="14137"/>
                  <a:pt x="15554" y="14133"/>
                </a:cubicBezTo>
                <a:cubicBezTo>
                  <a:pt x="16270" y="13932"/>
                  <a:pt x="16725" y="13673"/>
                  <a:pt x="17451" y="13333"/>
                </a:cubicBezTo>
                <a:lnTo>
                  <a:pt x="18019" y="13067"/>
                </a:lnTo>
                <a:cubicBezTo>
                  <a:pt x="18778" y="13156"/>
                  <a:pt x="19585" y="12949"/>
                  <a:pt x="20295" y="13333"/>
                </a:cubicBezTo>
                <a:cubicBezTo>
                  <a:pt x="20539" y="13465"/>
                  <a:pt x="20410" y="14049"/>
                  <a:pt x="20485" y="14400"/>
                </a:cubicBezTo>
                <a:cubicBezTo>
                  <a:pt x="20600" y="14938"/>
                  <a:pt x="20738" y="15467"/>
                  <a:pt x="20864" y="16000"/>
                </a:cubicBezTo>
                <a:lnTo>
                  <a:pt x="21054" y="16800"/>
                </a:lnTo>
                <a:cubicBezTo>
                  <a:pt x="21097" y="17223"/>
                  <a:pt x="21470" y="19415"/>
                  <a:pt x="21054" y="20000"/>
                </a:cubicBezTo>
                <a:cubicBezTo>
                  <a:pt x="20771" y="20398"/>
                  <a:pt x="20304" y="20397"/>
                  <a:pt x="19916" y="20533"/>
                </a:cubicBezTo>
                <a:cubicBezTo>
                  <a:pt x="18297" y="21103"/>
                  <a:pt x="19417" y="20774"/>
                  <a:pt x="16502" y="21067"/>
                </a:cubicBezTo>
                <a:cubicBezTo>
                  <a:pt x="16186" y="21156"/>
                  <a:pt x="15867" y="21223"/>
                  <a:pt x="15554" y="21333"/>
                </a:cubicBezTo>
                <a:cubicBezTo>
                  <a:pt x="15360" y="21402"/>
                  <a:pt x="15185" y="21600"/>
                  <a:pt x="14985" y="21600"/>
                </a:cubicBezTo>
                <a:cubicBezTo>
                  <a:pt x="14331" y="21600"/>
                  <a:pt x="12731" y="21286"/>
                  <a:pt x="11950" y="21067"/>
                </a:cubicBezTo>
                <a:cubicBezTo>
                  <a:pt x="10177" y="20568"/>
                  <a:pt x="12069" y="21042"/>
                  <a:pt x="10623" y="20533"/>
                </a:cubicBezTo>
                <a:cubicBezTo>
                  <a:pt x="9479" y="20131"/>
                  <a:pt x="9344" y="20277"/>
                  <a:pt x="7968" y="20000"/>
                </a:cubicBezTo>
                <a:cubicBezTo>
                  <a:pt x="7648" y="19936"/>
                  <a:pt x="7335" y="19822"/>
                  <a:pt x="7019" y="19733"/>
                </a:cubicBezTo>
                <a:cubicBezTo>
                  <a:pt x="6766" y="19556"/>
                  <a:pt x="6506" y="19397"/>
                  <a:pt x="6261" y="19200"/>
                </a:cubicBezTo>
                <a:cubicBezTo>
                  <a:pt x="6063" y="19041"/>
                  <a:pt x="5896" y="18810"/>
                  <a:pt x="5692" y="18667"/>
                </a:cubicBezTo>
                <a:cubicBezTo>
                  <a:pt x="5513" y="18541"/>
                  <a:pt x="5312" y="18489"/>
                  <a:pt x="5123" y="18400"/>
                </a:cubicBezTo>
                <a:cubicBezTo>
                  <a:pt x="4996" y="18133"/>
                  <a:pt x="4836" y="17893"/>
                  <a:pt x="4743" y="17600"/>
                </a:cubicBezTo>
                <a:cubicBezTo>
                  <a:pt x="4581" y="17086"/>
                  <a:pt x="4697" y="16312"/>
                  <a:pt x="4364" y="16000"/>
                </a:cubicBezTo>
                <a:lnTo>
                  <a:pt x="3795" y="15467"/>
                </a:lnTo>
                <a:cubicBezTo>
                  <a:pt x="3669" y="15200"/>
                  <a:pt x="3518" y="14953"/>
                  <a:pt x="3416" y="14667"/>
                </a:cubicBezTo>
                <a:cubicBezTo>
                  <a:pt x="3326" y="14415"/>
                  <a:pt x="3351" y="14086"/>
                  <a:pt x="3226" y="13867"/>
                </a:cubicBezTo>
                <a:cubicBezTo>
                  <a:pt x="3084" y="13616"/>
                  <a:pt x="2847" y="13511"/>
                  <a:pt x="2657" y="13333"/>
                </a:cubicBezTo>
                <a:cubicBezTo>
                  <a:pt x="2594" y="13067"/>
                  <a:pt x="2565" y="12779"/>
                  <a:pt x="2467" y="12533"/>
                </a:cubicBezTo>
                <a:cubicBezTo>
                  <a:pt x="2246" y="11973"/>
                  <a:pt x="1853" y="11541"/>
                  <a:pt x="1709" y="10933"/>
                </a:cubicBezTo>
                <a:cubicBezTo>
                  <a:pt x="1646" y="10667"/>
                  <a:pt x="1616" y="10379"/>
                  <a:pt x="1519" y="10133"/>
                </a:cubicBezTo>
                <a:cubicBezTo>
                  <a:pt x="1298" y="9573"/>
                  <a:pt x="905" y="9141"/>
                  <a:pt x="761" y="8533"/>
                </a:cubicBezTo>
                <a:lnTo>
                  <a:pt x="192" y="6133"/>
                </a:lnTo>
                <a:lnTo>
                  <a:pt x="2" y="5333"/>
                </a:lnTo>
                <a:cubicBezTo>
                  <a:pt x="65" y="4089"/>
                  <a:pt x="-130" y="2763"/>
                  <a:pt x="192" y="1600"/>
                </a:cubicBezTo>
                <a:cubicBezTo>
                  <a:pt x="357" y="1003"/>
                  <a:pt x="897" y="736"/>
                  <a:pt x="1330" y="533"/>
                </a:cubicBezTo>
                <a:lnTo>
                  <a:pt x="2467" y="0"/>
                </a:lnTo>
                <a:cubicBezTo>
                  <a:pt x="2847" y="89"/>
                  <a:pt x="3245" y="77"/>
                  <a:pt x="3605" y="267"/>
                </a:cubicBezTo>
                <a:cubicBezTo>
                  <a:pt x="3773" y="355"/>
                  <a:pt x="3845" y="643"/>
                  <a:pt x="3985" y="800"/>
                </a:cubicBezTo>
                <a:cubicBezTo>
                  <a:pt x="5181" y="2146"/>
                  <a:pt x="4017" y="579"/>
                  <a:pt x="4933" y="1867"/>
                </a:cubicBezTo>
                <a:cubicBezTo>
                  <a:pt x="4996" y="2133"/>
                  <a:pt x="5074" y="2394"/>
                  <a:pt x="5123" y="2667"/>
                </a:cubicBezTo>
                <a:cubicBezTo>
                  <a:pt x="5449" y="4500"/>
                  <a:pt x="5281" y="4222"/>
                  <a:pt x="5312" y="4533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0" name="AutoShape 59"/>
          <p:cNvCxnSpPr>
            <a:stCxn id="158" idx="0"/>
            <a:endCxn id="124" idx="0"/>
          </p:cNvCxnSpPr>
          <p:nvPr/>
        </p:nvCxnSpPr>
        <p:spPr>
          <a:xfrm flipH="1">
            <a:off x="2744280" y="2228760"/>
            <a:ext cx="100800" cy="343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1" name="AutoShape 60"/>
          <p:cNvCxnSpPr>
            <a:stCxn id="159" idx="0"/>
            <a:endCxn id="125" idx="0"/>
          </p:cNvCxnSpPr>
          <p:nvPr/>
        </p:nvCxnSpPr>
        <p:spPr>
          <a:xfrm flipH="1">
            <a:off x="2194920" y="2599920"/>
            <a:ext cx="114840" cy="270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62" name="Line 61"/>
          <p:cNvSpPr/>
          <p:nvPr/>
        </p:nvSpPr>
        <p:spPr>
          <a:xfrm flipH="1">
            <a:off x="8027640" y="2419200"/>
            <a:ext cx="360360" cy="273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3" name="AutoShape 62"/>
          <p:cNvCxnSpPr>
            <a:stCxn id="156" idx="0"/>
            <a:endCxn id="126" idx="0"/>
          </p:cNvCxnSpPr>
          <p:nvPr/>
        </p:nvCxnSpPr>
        <p:spPr>
          <a:xfrm flipH="1">
            <a:off x="7522920" y="2905200"/>
            <a:ext cx="234000" cy="282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64" name="Rectangle 63"/>
          <p:cNvSpPr/>
          <p:nvPr/>
        </p:nvSpPr>
        <p:spPr>
          <a:xfrm>
            <a:off x="1835280" y="166068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64"/>
          <p:cNvSpPr/>
          <p:nvPr/>
        </p:nvSpPr>
        <p:spPr>
          <a:xfrm>
            <a:off x="1619280" y="518940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052640"/>
            <a:ext cx="853452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s can be indexed not only with numbers, but also with strings or any other value of the language, except 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 =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ver = "forest"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Road = 0.3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Urban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["cover"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co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istRoad = loc.distRoad^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istTotal = loc.distRoad + loc.distUrb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istTot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eforestationPot = 1/loc.distTo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eforestationPo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ables within tab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052640"/>
            <a:ext cx="853452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 = {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cover = "forest"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 = {road = 0.3, urban = 2}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ist.ro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ist.total = loc.dist.road + loc.dist.urb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ist.total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414440"/>
            <a:ext cx="8534520" cy="482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function can carry out a specific task (commonly called procedure) or compute and return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function is a first-class value in Lu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unctions can be stored in variables and in tables, can be passed as arguments, and can be returned by other functions, giving great flexibility to the langua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yprint = pr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= 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yprint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= mypr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tandard librari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184040"/>
            <a:ext cx="853452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asic (print, type, tostring, tonumber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tring (string.find, string.gsub, string.format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 (table.insert, table.remove, table.sort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th (math.random, math.sin, math.exp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O (io.open, io.read, io.close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S PGothic"/>
                <a:cs typeface="MS PGothic"/>
              </a:rPr>
              <a:t>﻿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8*9, 9/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math.sin(3) + math.cos(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os.time(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string.find("pattern", "tt"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Definition of a 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1486080"/>
            <a:ext cx="8534520" cy="50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dd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retur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 +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dd(2, 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dd =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retur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 +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dd(2, 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arameters of a 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486080"/>
            <a:ext cx="85345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LL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RAMETER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3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3, b = nil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3, 4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3, b = 4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3, 4, 5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3, b = 4 (5 is discarded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High-order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7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Functions can also be parameters to other functions. This kind of function is what we call a higher-order functio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x = {7, 3, 2, 6, 4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forEachElement(x,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elemen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elemen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forEachElement(x,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value, position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position, value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ables with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341360"/>
            <a:ext cx="853452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 may have their own fu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 =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ver = "forest"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Road = 0.3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Urban = 2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forestPot = function(mylo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turn 1/(myloc.distRoad + myloc.distUrb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eforestPot(loc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:deforestPot(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ables with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120" y="969840"/>
            <a:ext cx="853452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We can declare a “class” in Lua by creating a function that takes a table constructor as argu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function MyLocation(locda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data.covertype = "forest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data.deforPot = function(sel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turn 1/(self.distRoad + self.distUrba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turn loc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 = MyLocation({distRoad = 0.3, distUrban = 2}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 = MyLocation{distRoad = 0.3, distUrban = 2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loc.covertyp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loc:deforPot(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1"/>
          <p:cNvSpPr/>
          <p:nvPr/>
        </p:nvSpPr>
        <p:spPr>
          <a:xfrm>
            <a:off x="5148360" y="1052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Group 2"/>
          <p:cNvGrpSpPr/>
          <p:nvPr/>
        </p:nvGrpSpPr>
        <p:grpSpPr>
          <a:xfrm>
            <a:off x="4788000" y="4842000"/>
            <a:ext cx="720720" cy="1222200"/>
            <a:chOff x="4788000" y="4842000"/>
            <a:chExt cx="720720" cy="1222200"/>
          </a:xfrm>
        </p:grpSpPr>
        <p:sp>
          <p:nvSpPr>
            <p:cNvPr id="168" name="Rectangle 3"/>
            <p:cNvSpPr/>
            <p:nvPr/>
          </p:nvSpPr>
          <p:spPr>
            <a:xfrm>
              <a:off x="4788000" y="4842000"/>
              <a:ext cx="720720" cy="122220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4921560" y="4842000"/>
              <a:ext cx="4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f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Line 5"/>
          <p:cNvSpPr/>
          <p:nvPr/>
        </p:nvSpPr>
        <p:spPr>
          <a:xfrm>
            <a:off x="2673360" y="5661000"/>
            <a:ext cx="225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197080" y="5291280"/>
            <a:ext cx="27352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8153280" cy="76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003366"/>
                </a:solidFill>
                <a:latin typeface="Calibri"/>
              </a:rPr>
              <a:t>Dynamic Models</a:t>
            </a:r>
            <a:endParaRPr b="1" lang="en-US" sz="4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4657680" y="1411200"/>
            <a:ext cx="1008000" cy="1946520"/>
            <a:chOff x="4657680" y="1411200"/>
            <a:chExt cx="1008000" cy="1946520"/>
          </a:xfrm>
        </p:grpSpPr>
        <p:sp>
          <p:nvSpPr>
            <p:cNvPr id="174" name="Rectangle 9"/>
            <p:cNvSpPr/>
            <p:nvPr/>
          </p:nvSpPr>
          <p:spPr>
            <a:xfrm>
              <a:off x="4657680" y="1411200"/>
              <a:ext cx="1008000" cy="194652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5060520" y="1411200"/>
              <a:ext cx="2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elvetica Light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Rectangle 11"/>
          <p:cNvSpPr/>
          <p:nvPr/>
        </p:nvSpPr>
        <p:spPr>
          <a:xfrm>
            <a:off x="13320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64134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-441360" y="22766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-396720" y="48290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Mod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15"/>
          <p:cNvSpPr/>
          <p:nvPr/>
        </p:nvSpPr>
        <p:spPr>
          <a:xfrm>
            <a:off x="2556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16"/>
          <p:cNvSpPr/>
          <p:nvPr/>
        </p:nvSpPr>
        <p:spPr>
          <a:xfrm>
            <a:off x="2340000" y="2492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320364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2771640" y="27795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1690560" y="2205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20"/>
          <p:cNvSpPr/>
          <p:nvPr/>
        </p:nvSpPr>
        <p:spPr>
          <a:xfrm>
            <a:off x="802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21"/>
          <p:cNvSpPr/>
          <p:nvPr/>
        </p:nvSpPr>
        <p:spPr>
          <a:xfrm>
            <a:off x="831528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22"/>
          <p:cNvSpPr/>
          <p:nvPr/>
        </p:nvSpPr>
        <p:spPr>
          <a:xfrm>
            <a:off x="7380360" y="3009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23"/>
          <p:cNvSpPr/>
          <p:nvPr/>
        </p:nvSpPr>
        <p:spPr>
          <a:xfrm>
            <a:off x="7523280" y="22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24"/>
          <p:cNvSpPr/>
          <p:nvPr/>
        </p:nvSpPr>
        <p:spPr>
          <a:xfrm>
            <a:off x="7091280" y="1844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25"/>
          <p:cNvSpPr/>
          <p:nvPr/>
        </p:nvSpPr>
        <p:spPr>
          <a:xfrm>
            <a:off x="2843280" y="2852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26"/>
          <p:cNvSpPr/>
          <p:nvPr/>
        </p:nvSpPr>
        <p:spPr>
          <a:xfrm flipV="1">
            <a:off x="2409840" y="2565000"/>
            <a:ext cx="2522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2630520" y="1916280"/>
            <a:ext cx="446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279600" y="2133720"/>
            <a:ext cx="503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1776240" y="2276640"/>
            <a:ext cx="31546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30"/>
          <p:cNvSpPr/>
          <p:nvPr/>
        </p:nvSpPr>
        <p:spPr>
          <a:xfrm>
            <a:off x="5364000" y="3068640"/>
            <a:ext cx="2086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31"/>
          <p:cNvSpPr/>
          <p:nvPr/>
        </p:nvSpPr>
        <p:spPr>
          <a:xfrm flipV="1">
            <a:off x="5364000" y="2777760"/>
            <a:ext cx="279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32"/>
          <p:cNvSpPr/>
          <p:nvPr/>
        </p:nvSpPr>
        <p:spPr>
          <a:xfrm flipV="1">
            <a:off x="5364000" y="2346480"/>
            <a:ext cx="22273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33"/>
          <p:cNvSpPr/>
          <p:nvPr/>
        </p:nvSpPr>
        <p:spPr>
          <a:xfrm flipH="1" flipV="1">
            <a:off x="4932000" y="285264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34"/>
          <p:cNvSpPr/>
          <p:nvPr/>
        </p:nvSpPr>
        <p:spPr>
          <a:xfrm flipH="1">
            <a:off x="4932000" y="2349360"/>
            <a:ext cx="43164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35"/>
          <p:cNvSpPr/>
          <p:nvPr/>
        </p:nvSpPr>
        <p:spPr>
          <a:xfrm flipH="1" flipV="1">
            <a:off x="4932000" y="2274480"/>
            <a:ext cx="431640" cy="50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36"/>
          <p:cNvSpPr/>
          <p:nvPr/>
        </p:nvSpPr>
        <p:spPr>
          <a:xfrm>
            <a:off x="2124000" y="2924280"/>
            <a:ext cx="14292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7"/>
          <p:cNvSpPr/>
          <p:nvPr/>
        </p:nvSpPr>
        <p:spPr>
          <a:xfrm>
            <a:off x="1835280" y="166068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38" descr="J:\Dropbox\1_2012\1_DOUTORADO\CONTEÚDO_TESE\2_AGEOGRAPHY_F\figures\Figure2.tif"/>
          <p:cNvPicPr/>
          <p:nvPr/>
        </p:nvPicPr>
        <p:blipFill>
          <a:blip r:embed="rId1"/>
          <a:srcRect l="0" t="0" r="49889" b="0"/>
          <a:stretch/>
        </p:blipFill>
        <p:spPr>
          <a:xfrm>
            <a:off x="1116000" y="4365720"/>
            <a:ext cx="2762280" cy="2163600"/>
          </a:xfrm>
          <a:prstGeom prst="rect">
            <a:avLst/>
          </a:prstGeom>
          <a:ln w="0">
            <a:noFill/>
          </a:ln>
        </p:spPr>
      </p:pic>
      <p:sp>
        <p:nvSpPr>
          <p:cNvPr id="204" name="Oval 39"/>
          <p:cNvSpPr/>
          <p:nvPr/>
        </p:nvSpPr>
        <p:spPr>
          <a:xfrm>
            <a:off x="7451640" y="5661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40"/>
          <p:cNvSpPr/>
          <p:nvPr/>
        </p:nvSpPr>
        <p:spPr>
          <a:xfrm>
            <a:off x="7956720" y="5156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41"/>
          <p:cNvSpPr/>
          <p:nvPr/>
        </p:nvSpPr>
        <p:spPr>
          <a:xfrm>
            <a:off x="5364000" y="5732640"/>
            <a:ext cx="20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42"/>
          <p:cNvSpPr/>
          <p:nvPr/>
        </p:nvSpPr>
        <p:spPr>
          <a:xfrm flipV="1">
            <a:off x="5364000" y="5226120"/>
            <a:ext cx="265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Line 43"/>
          <p:cNvSpPr/>
          <p:nvPr/>
        </p:nvSpPr>
        <p:spPr>
          <a:xfrm flipV="1">
            <a:off x="4932360" y="5229000"/>
            <a:ext cx="4302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44"/>
          <p:cNvSpPr/>
          <p:nvPr/>
        </p:nvSpPr>
        <p:spPr>
          <a:xfrm flipH="1" flipV="1">
            <a:off x="4932000" y="5300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45"/>
          <p:cNvSpPr/>
          <p:nvPr/>
        </p:nvSpPr>
        <p:spPr>
          <a:xfrm flipH="1">
            <a:off x="2842920" y="2852640"/>
            <a:ext cx="14292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6" descr="image"/>
          <p:cNvPicPr/>
          <p:nvPr/>
        </p:nvPicPr>
        <p:blipFill>
          <a:blip r:embed="rId2"/>
          <a:stretch/>
        </p:blipFill>
        <p:spPr>
          <a:xfrm>
            <a:off x="2124000" y="3429000"/>
            <a:ext cx="863640" cy="812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7" descr="J:\Dropbox\1_2012\1_DOUTORADO\CONTEÚDO_TESE\2_AGEOGRAPHY_F\figures\Figure2.tif"/>
          <p:cNvPicPr/>
          <p:nvPr/>
        </p:nvPicPr>
        <p:blipFill>
          <a:blip r:embed="rId3"/>
          <a:srcRect l="50560" t="0" r="0" b="0"/>
          <a:stretch/>
        </p:blipFill>
        <p:spPr>
          <a:xfrm>
            <a:off x="6294600" y="4365720"/>
            <a:ext cx="2670120" cy="2117520"/>
          </a:xfrm>
          <a:prstGeom prst="rect">
            <a:avLst/>
          </a:prstGeom>
          <a:ln w="0">
            <a:noFill/>
          </a:ln>
        </p:spPr>
      </p:pic>
      <p:sp>
        <p:nvSpPr>
          <p:cNvPr id="213" name="Line 48"/>
          <p:cNvSpPr/>
          <p:nvPr/>
        </p:nvSpPr>
        <p:spPr>
          <a:xfrm flipH="1">
            <a:off x="8027640" y="2852640"/>
            <a:ext cx="14436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49"/>
          <p:cNvSpPr/>
          <p:nvPr/>
        </p:nvSpPr>
        <p:spPr>
          <a:xfrm>
            <a:off x="7451640" y="2924280"/>
            <a:ext cx="21456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50" descr="image"/>
          <p:cNvPicPr/>
          <p:nvPr/>
        </p:nvPicPr>
        <p:blipFill>
          <a:blip r:embed="rId4"/>
          <a:stretch/>
        </p:blipFill>
        <p:spPr>
          <a:xfrm>
            <a:off x="7380360" y="3429000"/>
            <a:ext cx="863640" cy="81288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1"/>
          <p:cNvGrpSpPr/>
          <p:nvPr/>
        </p:nvGrpSpPr>
        <p:grpSpPr>
          <a:xfrm>
            <a:off x="6732720" y="1773360"/>
            <a:ext cx="1993680" cy="1439640"/>
            <a:chOff x="6732720" y="1773360"/>
            <a:chExt cx="1993680" cy="1439640"/>
          </a:xfrm>
        </p:grpSpPr>
        <p:sp>
          <p:nvSpPr>
            <p:cNvPr id="217" name="Rectangle 52"/>
            <p:cNvSpPr/>
            <p:nvPr/>
          </p:nvSpPr>
          <p:spPr>
            <a:xfrm>
              <a:off x="6732720" y="1773360"/>
              <a:ext cx="1993680" cy="14396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Rectangle 53"/>
            <p:cNvSpPr/>
            <p:nvPr/>
          </p:nvSpPr>
          <p:spPr>
            <a:xfrm>
              <a:off x="7463160" y="1773360"/>
              <a:ext cx="532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0" spc="-1" strike="noStrike">
                  <a:solidFill>
                    <a:srgbClr val="000000"/>
                  </a:solidFill>
                  <a:latin typeface="Helvetica Ligh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54"/>
          <p:cNvGrpSpPr/>
          <p:nvPr/>
        </p:nvGrpSpPr>
        <p:grpSpPr>
          <a:xfrm>
            <a:off x="1496880" y="1773360"/>
            <a:ext cx="1995480" cy="1439640"/>
            <a:chOff x="1496880" y="1773360"/>
            <a:chExt cx="1995480" cy="1439640"/>
          </a:xfrm>
        </p:grpSpPr>
        <p:sp>
          <p:nvSpPr>
            <p:cNvPr id="220" name="Rectangle 55"/>
            <p:cNvSpPr/>
            <p:nvPr/>
          </p:nvSpPr>
          <p:spPr>
            <a:xfrm>
              <a:off x="1496880" y="1773360"/>
              <a:ext cx="1995480" cy="14396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Rectangle 56"/>
            <p:cNvSpPr/>
            <p:nvPr/>
          </p:nvSpPr>
          <p:spPr>
            <a:xfrm>
              <a:off x="2228400" y="1773360"/>
              <a:ext cx="532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0" spc="-1" strike="noStrike">
                  <a:solidFill>
                    <a:srgbClr val="000000"/>
                  </a:solidFill>
                  <a:latin typeface="Helvetica Ligh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Rectangle 57"/>
          <p:cNvSpPr/>
          <p:nvPr/>
        </p:nvSpPr>
        <p:spPr>
          <a:xfrm>
            <a:off x="3807000" y="5157720"/>
            <a:ext cx="98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58"/>
          <p:cNvSpPr/>
          <p:nvPr/>
        </p:nvSpPr>
        <p:spPr>
          <a:xfrm>
            <a:off x="1116000" y="4378320"/>
            <a:ext cx="503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59"/>
          <p:cNvSpPr/>
          <p:nvPr/>
        </p:nvSpPr>
        <p:spPr>
          <a:xfrm>
            <a:off x="8459640" y="4365720"/>
            <a:ext cx="505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137440" cy="172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pt-BR" sz="1700" spc="-1" strike="noStrike">
                <a:solidFill>
                  <a:srgbClr val="ff3300"/>
                </a:solidFill>
                <a:latin typeface="Calibri"/>
              </a:rPr>
              <a:t>“</a:t>
            </a:r>
            <a:r>
              <a:rPr b="0" lang="pt-BR" sz="1700" spc="-1" strike="noStrike">
                <a:solidFill>
                  <a:srgbClr val="ff3300"/>
                </a:solidFill>
                <a:latin typeface="Calibri"/>
              </a:rPr>
              <a:t>[The] advantage of a mathematical statement is that it is so definite that it might be definitely wrong…..Some verbal statements have not this merit; they are so vague that they could hardly be wrong, and are correspondingly useless.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Lewis Fry Richardson (1881-1953) – first to apply mathematical methods to numerical weather predi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739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Mathematical/Computational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27" name="Picture 3" descr="image.png"/>
          <p:cNvPicPr/>
          <p:nvPr/>
        </p:nvPicPr>
        <p:blipFill>
          <a:blip r:embed="rId1"/>
          <a:stretch/>
        </p:blipFill>
        <p:spPr>
          <a:xfrm>
            <a:off x="755640" y="3705120"/>
            <a:ext cx="2575080" cy="313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image.png"/>
          <p:cNvPicPr/>
          <p:nvPr/>
        </p:nvPicPr>
        <p:blipFill>
          <a:blip r:embed="rId2"/>
          <a:stretch/>
        </p:blipFill>
        <p:spPr>
          <a:xfrm>
            <a:off x="4284720" y="3789360"/>
            <a:ext cx="3527280" cy="29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-27000" y="1168560"/>
            <a:ext cx="638280" cy="56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63640" y="499680"/>
            <a:ext cx="710424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Calibri"/>
              </a:rPr>
              <a:t>TerraME: Computational environment for  developing nature-society models</a:t>
            </a:r>
            <a:endParaRPr b="1" lang="en-US" sz="2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0" y="1636200"/>
            <a:ext cx="8877240" cy="4386600"/>
            <a:chOff x="0" y="1636200"/>
            <a:chExt cx="8877240" cy="4386600"/>
          </a:xfrm>
        </p:grpSpPr>
        <p:sp>
          <p:nvSpPr>
            <p:cNvPr id="232" name="Rectangle 4"/>
            <p:cNvSpPr/>
            <p:nvPr/>
          </p:nvSpPr>
          <p:spPr>
            <a:xfrm>
              <a:off x="0" y="1865160"/>
              <a:ext cx="8877240" cy="4157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3" name="Picture 5" descr="npo00014e"/>
            <p:cNvPicPr/>
            <p:nvPr/>
          </p:nvPicPr>
          <p:blipFill>
            <a:blip r:embed="rId1"/>
            <a:stretch/>
          </p:blipFill>
          <p:spPr>
            <a:xfrm>
              <a:off x="295200" y="2054520"/>
              <a:ext cx="5327640" cy="387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" name="Group 6"/>
            <p:cNvGrpSpPr/>
            <p:nvPr/>
          </p:nvGrpSpPr>
          <p:grpSpPr>
            <a:xfrm>
              <a:off x="50760" y="1636200"/>
              <a:ext cx="2108160" cy="305280"/>
              <a:chOff x="50760" y="1636200"/>
              <a:chExt cx="2108160" cy="305280"/>
            </a:xfrm>
          </p:grpSpPr>
          <p:sp>
            <p:nvSpPr>
              <p:cNvPr id="235" name="Rectangle 7"/>
              <p:cNvSpPr/>
              <p:nvPr/>
            </p:nvSpPr>
            <p:spPr>
              <a:xfrm>
                <a:off x="50760" y="1641960"/>
                <a:ext cx="210816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Rectangle 8"/>
              <p:cNvSpPr/>
              <p:nvPr/>
            </p:nvSpPr>
            <p:spPr>
              <a:xfrm>
                <a:off x="50760" y="1636200"/>
                <a:ext cx="2108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Humnst777 BT"/>
                  </a:rPr>
                  <a:t>Cell Space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37" name="Picture 9" descr="npo000150"/>
            <p:cNvPicPr/>
            <p:nvPr/>
          </p:nvPicPr>
          <p:blipFill>
            <a:blip r:embed="rId2"/>
            <a:stretch/>
          </p:blipFill>
          <p:spPr>
            <a:xfrm>
              <a:off x="5311800" y="3490560"/>
              <a:ext cx="3255840" cy="91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0" descr="npo000153"/>
            <p:cNvPicPr/>
            <p:nvPr/>
          </p:nvPicPr>
          <p:blipFill>
            <a:blip r:embed="rId3"/>
            <a:stretch/>
          </p:blipFill>
          <p:spPr>
            <a:xfrm>
              <a:off x="5767560" y="4479840"/>
              <a:ext cx="2990880" cy="145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Picture 11" descr="D:\docs\pesquisa\inpe\2009\ccst-workshop\terrame_logo_gimp.bmp"/>
          <p:cNvPicPr/>
          <p:nvPr/>
        </p:nvPicPr>
        <p:blipFill>
          <a:blip r:embed="rId4"/>
          <a:stretch/>
        </p:blipFill>
        <p:spPr>
          <a:xfrm>
            <a:off x="-36360" y="0"/>
            <a:ext cx="1711080" cy="1447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2"/>
          <p:cNvSpPr/>
          <p:nvPr/>
        </p:nvSpPr>
        <p:spPr>
          <a:xfrm>
            <a:off x="6437160" y="6521400"/>
            <a:ext cx="2706840" cy="5785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Helvetica Light"/>
              </a:rPr>
              <a:t>Source: [Carneiro et al., 2013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1"/>
          <p:cNvGrpSpPr/>
          <p:nvPr/>
        </p:nvGrpSpPr>
        <p:grpSpPr>
          <a:xfrm>
            <a:off x="4286160" y="2106720"/>
            <a:ext cx="893880" cy="492120"/>
            <a:chOff x="4286160" y="2106720"/>
            <a:chExt cx="893880" cy="492120"/>
          </a:xfrm>
        </p:grpSpPr>
        <p:sp>
          <p:nvSpPr>
            <p:cNvPr id="242" name="Rectangle 2"/>
            <p:cNvSpPr/>
            <p:nvPr/>
          </p:nvSpPr>
          <p:spPr>
            <a:xfrm>
              <a:off x="4286160" y="2106720"/>
              <a:ext cx="893880" cy="492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3"/>
            <p:cNvSpPr/>
            <p:nvPr/>
          </p:nvSpPr>
          <p:spPr>
            <a:xfrm>
              <a:off x="4286160" y="2171880"/>
              <a:ext cx="89388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Desig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4"/>
          <p:cNvGrpSpPr/>
          <p:nvPr/>
        </p:nvGrpSpPr>
        <p:grpSpPr>
          <a:xfrm>
            <a:off x="6215040" y="2935440"/>
            <a:ext cx="1052640" cy="620280"/>
            <a:chOff x="6215040" y="2935440"/>
            <a:chExt cx="1052640" cy="620280"/>
          </a:xfrm>
        </p:grpSpPr>
        <p:sp>
          <p:nvSpPr>
            <p:cNvPr id="245" name="Rectangle 5"/>
            <p:cNvSpPr/>
            <p:nvPr/>
          </p:nvSpPr>
          <p:spPr>
            <a:xfrm>
              <a:off x="6215040" y="3000240"/>
              <a:ext cx="1052640" cy="490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 Box 6"/>
            <p:cNvSpPr/>
            <p:nvPr/>
          </p:nvSpPr>
          <p:spPr>
            <a:xfrm>
              <a:off x="6215040" y="2935440"/>
              <a:ext cx="105264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Database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AutoShape 7"/>
          <p:cNvSpPr/>
          <p:nvPr/>
        </p:nvSpPr>
        <p:spPr>
          <a:xfrm>
            <a:off x="5183280" y="2554200"/>
            <a:ext cx="1027080" cy="4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60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6296040" y="4626000"/>
            <a:ext cx="1052640" cy="490680"/>
            <a:chOff x="6296040" y="4626000"/>
            <a:chExt cx="1052640" cy="490680"/>
          </a:xfrm>
        </p:grpSpPr>
        <p:sp>
          <p:nvSpPr>
            <p:cNvPr id="249" name="Rectangle 9"/>
            <p:cNvSpPr/>
            <p:nvPr/>
          </p:nvSpPr>
          <p:spPr>
            <a:xfrm>
              <a:off x="6296040" y="4626000"/>
              <a:ext cx="1052640" cy="490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 Box 10"/>
            <p:cNvSpPr/>
            <p:nvPr/>
          </p:nvSpPr>
          <p:spPr>
            <a:xfrm>
              <a:off x="6296040" y="4690800"/>
              <a:ext cx="10526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Statistics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4964040" y="5882760"/>
            <a:ext cx="1673280" cy="620280"/>
            <a:chOff x="4964040" y="5882760"/>
            <a:chExt cx="1673280" cy="620280"/>
          </a:xfrm>
        </p:grpSpPr>
        <p:sp>
          <p:nvSpPr>
            <p:cNvPr id="252" name="Rectangle 12"/>
            <p:cNvSpPr/>
            <p:nvPr/>
          </p:nvSpPr>
          <p:spPr>
            <a:xfrm>
              <a:off x="4964040" y="5946840"/>
              <a:ext cx="1673280" cy="492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4964040" y="5882760"/>
              <a:ext cx="16732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Implement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14"/>
          <p:cNvGrpSpPr/>
          <p:nvPr/>
        </p:nvGrpSpPr>
        <p:grpSpPr>
          <a:xfrm>
            <a:off x="2406600" y="5705640"/>
            <a:ext cx="1357200" cy="492120"/>
            <a:chOff x="2406600" y="5705640"/>
            <a:chExt cx="1357200" cy="492120"/>
          </a:xfrm>
        </p:grpSpPr>
        <p:sp>
          <p:nvSpPr>
            <p:cNvPr id="255" name="Rectangle 15"/>
            <p:cNvSpPr/>
            <p:nvPr/>
          </p:nvSpPr>
          <p:spPr>
            <a:xfrm>
              <a:off x="2406600" y="5705640"/>
              <a:ext cx="1357200" cy="492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2406600" y="5770800"/>
              <a:ext cx="13572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Verific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AutoShape 17"/>
          <p:cNvSpPr/>
          <p:nvPr/>
        </p:nvSpPr>
        <p:spPr>
          <a:xfrm>
            <a:off x="6753240" y="3497400"/>
            <a:ext cx="55440" cy="11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18"/>
          <p:cNvSpPr/>
          <p:nvPr/>
        </p:nvSpPr>
        <p:spPr>
          <a:xfrm>
            <a:off x="5994360" y="5122800"/>
            <a:ext cx="633600" cy="81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19"/>
          <p:cNvGrpSpPr/>
          <p:nvPr/>
        </p:nvGrpSpPr>
        <p:grpSpPr>
          <a:xfrm>
            <a:off x="1763640" y="4392720"/>
            <a:ext cx="1357560" cy="492120"/>
            <a:chOff x="1763640" y="4392720"/>
            <a:chExt cx="1357560" cy="492120"/>
          </a:xfrm>
        </p:grpSpPr>
        <p:sp>
          <p:nvSpPr>
            <p:cNvPr id="260" name="Rectangle 20"/>
            <p:cNvSpPr/>
            <p:nvPr/>
          </p:nvSpPr>
          <p:spPr>
            <a:xfrm>
              <a:off x="1763640" y="4392720"/>
              <a:ext cx="1357560" cy="492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21"/>
            <p:cNvSpPr/>
            <p:nvPr/>
          </p:nvSpPr>
          <p:spPr>
            <a:xfrm>
              <a:off x="1763640" y="4457880"/>
              <a:ext cx="13575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Simul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1830240" y="2911320"/>
            <a:ext cx="1357560" cy="490680"/>
            <a:chOff x="1830240" y="2911320"/>
            <a:chExt cx="1357560" cy="490680"/>
          </a:xfrm>
        </p:grpSpPr>
        <p:sp>
          <p:nvSpPr>
            <p:cNvPr id="263" name="Rectangle 23"/>
            <p:cNvSpPr/>
            <p:nvPr/>
          </p:nvSpPr>
          <p:spPr>
            <a:xfrm>
              <a:off x="1830240" y="2911320"/>
              <a:ext cx="1357560" cy="490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1830240" y="2976120"/>
              <a:ext cx="13575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Statistics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2455920" y="1249200"/>
            <a:ext cx="1357200" cy="492120"/>
            <a:chOff x="2455920" y="1249200"/>
            <a:chExt cx="1357200" cy="492120"/>
          </a:xfrm>
        </p:grpSpPr>
        <p:sp>
          <p:nvSpPr>
            <p:cNvPr id="266" name="Rectangle 26"/>
            <p:cNvSpPr/>
            <p:nvPr/>
          </p:nvSpPr>
          <p:spPr>
            <a:xfrm>
              <a:off x="2455920" y="1249200"/>
              <a:ext cx="1357200" cy="4921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 Box 27"/>
            <p:cNvSpPr/>
            <p:nvPr/>
          </p:nvSpPr>
          <p:spPr>
            <a:xfrm>
              <a:off x="2455920" y="1314360"/>
              <a:ext cx="13572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Public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AutoShape 28"/>
          <p:cNvSpPr/>
          <p:nvPr/>
        </p:nvSpPr>
        <p:spPr>
          <a:xfrm>
            <a:off x="2603520" y="1746360"/>
            <a:ext cx="436680" cy="116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AutoShape 29"/>
          <p:cNvSpPr/>
          <p:nvPr/>
        </p:nvSpPr>
        <p:spPr>
          <a:xfrm>
            <a:off x="3192480" y="2516040"/>
            <a:ext cx="1089000" cy="39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AutoShape 30"/>
          <p:cNvSpPr/>
          <p:nvPr/>
        </p:nvSpPr>
        <p:spPr>
          <a:xfrm>
            <a:off x="2452680" y="3408480"/>
            <a:ext cx="44280" cy="97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31"/>
          <p:cNvSpPr/>
          <p:nvPr/>
        </p:nvSpPr>
        <p:spPr>
          <a:xfrm>
            <a:off x="2563920" y="4889520"/>
            <a:ext cx="398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AutoShape 32"/>
          <p:cNvSpPr/>
          <p:nvPr/>
        </p:nvSpPr>
        <p:spPr>
          <a:xfrm>
            <a:off x="3768840" y="6012000"/>
            <a:ext cx="1191960" cy="10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60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33"/>
          <p:cNvSpPr/>
          <p:nvPr/>
        </p:nvSpPr>
        <p:spPr>
          <a:xfrm>
            <a:off x="7110000" y="2539440"/>
            <a:ext cx="529200" cy="5900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p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i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3701880" y="1071000"/>
            <a:ext cx="8924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7185600" y="4473000"/>
            <a:ext cx="6602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sta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6"/>
          <p:cNvSpPr/>
          <p:nvPr/>
        </p:nvSpPr>
        <p:spPr>
          <a:xfrm>
            <a:off x="6581880" y="6250320"/>
            <a:ext cx="24494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(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ysdyn</a:t>
            </a: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, etc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7"/>
          <p:cNvSpPr/>
          <p:nvPr/>
        </p:nvSpPr>
        <p:spPr>
          <a:xfrm>
            <a:off x="1417680" y="2669760"/>
            <a:ext cx="6602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sta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817920" y="4178880"/>
            <a:ext cx="116460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39"/>
          <p:cNvSpPr/>
          <p:nvPr/>
        </p:nvSpPr>
        <p:spPr>
          <a:xfrm>
            <a:off x="1580760" y="6089040"/>
            <a:ext cx="97272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observ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8640" y="307800"/>
            <a:ext cx="7804080" cy="67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erraME: Cover the Whole Modelling cyc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at is Lu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Yet another script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imple and flexi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mple things simple, complex things possibl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mall, Efficient, Port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ree and distributed under MIT lic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4608360" y="6323040"/>
            <a:ext cx="45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Humnst777 BT"/>
                <a:ea typeface="Humnst777 BT"/>
              </a:rPr>
              <a:t>Lua and the 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ere is Lu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side 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trobras, the Brazilian Oil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mbratel (the main telecommunication company in Brazi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ny other compan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side 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ua is used in hundreds of projects, both commercial and academ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GILua still in restricted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until recently all documentation was in Portugu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4" descr="image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5"/>
          <p:cNvGrpSpPr/>
          <p:nvPr/>
        </p:nvGrpSpPr>
        <p:grpSpPr>
          <a:xfrm>
            <a:off x="108000" y="2878200"/>
            <a:ext cx="7481880" cy="1086840"/>
            <a:chOff x="108000" y="2878200"/>
            <a:chExt cx="7481880" cy="1086840"/>
          </a:xfrm>
        </p:grpSpPr>
        <p:sp>
          <p:nvSpPr>
            <p:cNvPr id="288" name="Rectangle 6"/>
            <p:cNvSpPr/>
            <p:nvPr/>
          </p:nvSpPr>
          <p:spPr>
            <a:xfrm>
              <a:off x="108000" y="2878200"/>
              <a:ext cx="7481880" cy="550440"/>
            </a:xfrm>
            <a:prstGeom prst="rect">
              <a:avLst/>
            </a:prstGeom>
            <a:solidFill>
              <a:srgbClr val="d0d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marL="189000" indent="-1890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7"/>
            <p:cNvSpPr/>
            <p:nvPr/>
          </p:nvSpPr>
          <p:spPr>
            <a:xfrm>
              <a:off x="108000" y="2878200"/>
              <a:ext cx="7481880" cy="10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marL="189000" indent="-18900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Calibri"/>
                </a:rPr>
                <a:t>Lua is the language of choice for computer gam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189000" indent="-18900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0" name="Picture 8" descr="A:\LUALOGO.GIF"/>
          <p:cNvPicPr/>
          <p:nvPr/>
        </p:nvPicPr>
        <p:blipFill>
          <a:blip r:embed="rId2"/>
          <a:stretch/>
        </p:blipFill>
        <p:spPr>
          <a:xfrm>
            <a:off x="7696080" y="2428920"/>
            <a:ext cx="1357560" cy="138096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291" name="Rectangle 9"/>
          <p:cNvSpPr/>
          <p:nvPr/>
        </p:nvSpPr>
        <p:spPr>
          <a:xfrm>
            <a:off x="6643800" y="6546960"/>
            <a:ext cx="250020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Ierusalimschy et al, 1996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0" y="6519960"/>
            <a:ext cx="197964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ource: the Lua te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Variables and Valu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1341000"/>
            <a:ext cx="8534520" cy="489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micolon may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ptionally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llow any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 = a*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 R. Andrade</dc:creator>
  <dc:description/>
  <dc:language>en-US</dc:language>
  <cp:lastModifiedBy>pedrorib81 pedrorib81</cp:lastModifiedBy>
  <dcterms:modified xsi:type="dcterms:W3CDTF">2019-06-27T20:36:50Z</dcterms:modified>
  <cp:revision>6</cp:revision>
  <dc:subject/>
  <dc:title>Lua for TerraME: A Short Introduction</dc:title>
</cp:coreProperties>
</file>